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88B-5F96-4D4B-BFE1-3074C1AB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34E-137F-4EBA-B6F6-AE6F2ABD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AAAF3-A86B-4A03-94B5-36AFD53E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6A85C-147A-4CB3-9A3C-6FDB52FA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D413E-98B5-42EB-ADF4-31F98B8B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FA3D9-A12F-43EB-BEFB-9A77C2A3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5244F-7731-42BE-A3F1-9445BD4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90778-5F63-45BD-8F8B-CF4C7A15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0484E-45D5-4708-A501-6C80C2AE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D0A48-46BD-4B0C-A792-CFE6B92A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675B0-98BB-4CB3-9C1D-99702099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CB3F7-CAB4-463B-8166-4A53D41A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ACC-8EAF-4A60-87D5-6652071B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1B07C-63FC-47CF-876C-215F0128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28195-1C25-41C3-8AD7-74DDAD85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44D8F-B57D-48D1-90B8-22E58BE8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822B3-81EE-4DD7-8E82-6E179DFA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B734B-D309-40E4-8AD1-58ED0A33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B84A3-A13A-47A5-9331-B354D3D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8C07D-EFEC-48CC-9835-3F8CDB8B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E5AA4-B1B8-4BA6-BB80-A70FD7DB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36AD4-E4A0-48B7-9673-9BDC9D86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34CB8-F585-413E-A65A-635AC8E4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6D7-7745-48BA-80C7-069F1A71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4ECCF-91B8-472F-AE26-B2D1B749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B16CB-3461-4984-B4B8-6A9AC110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6DC5D-06E1-4153-B8C3-B2551E1F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E5178-C335-4F5A-A697-951C8C59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E14E9-4091-456D-9CC1-52EE4861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DC7AB-70F7-4967-A3FA-63F4DDDE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69480-B3F9-4E5E-B61A-4E4D9746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38169-20E7-4B8F-89A6-1708A48F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72FD8-DD98-47F7-8FB4-28B31E30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FDCA7-9869-48C1-90B8-A923A31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E6A8-F98B-4CBD-BD80-E2869281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26649-721A-46B6-A01C-03EBA6C0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2B8DD-B3ED-473E-B01E-5E0992D9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FA62F-CF88-41E1-91EE-96FB4E0C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D810A-BEE7-4DD0-92D2-95E1A8D9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3F957-3262-49CD-9A49-725AE017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01382-CAB5-4008-9D24-A6F04411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3A50E-7C66-4ACA-9561-68E94D2E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25B11-188A-4CCE-8F68-32E0DA5E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01A89-6EF6-4AAA-95CD-397AFABC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6A0A4-391E-4B6E-902E-AF0ECF2B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78B2-C1CC-484F-9709-F034AE5E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13C44-315E-4665-9636-BF9D92DF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BD256-4944-4238-9E27-1B028253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D8AB9-64D9-4F34-A797-8EB7E04B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A4F37-2191-4566-8578-EC3C28B4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DBCC4-7D62-4E0F-87B2-416F3CE2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4C5C7-FFB0-43E4-ACB9-5D99C701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9FBE0-AE72-4401-AC94-BA4073D2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799FD-CDCB-4D75-A56F-341B4936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DBD0E-514E-4A5D-B224-937527FC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4BE3B-7CFF-40A6-957E-06F7A9B6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C403-F319-49FF-A151-7F9DD4AD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DCBCC-D2FC-43C5-84BF-E8764F38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8A75C-2968-45A1-AFEA-6E59BC56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18E5A-6BEC-42B1-8BA7-570AFD6C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38280-4A28-4452-B2C4-5C1776CC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A06D0-9D76-4481-869B-6E9AE323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ACB3B-6C15-4453-B448-48F40B58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26D65-5558-454F-BDDB-075D2B71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DF55-9142-4FA8-A5CC-15619D11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D56E-1697-49A5-BD0D-80EFDB4F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B32B-7FAC-4AB6-BBB4-E1BD37E0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7D02-B173-4EEE-9FC9-FF35FABA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3D6-4175-4B47-B03D-9813A954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EE58-67E9-41BB-9F46-4E11B4FF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24F0-11CE-4645-9C1E-558E09AC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3B5A-AB39-41BA-A494-7323742C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E2B9-016F-4E7F-85CF-12DBB7D9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27B8-9F3C-4D9A-9609-12EBBF4F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E665-D23A-4C93-8D04-D5583A11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84F1-8F9D-42BE-853E-C6BC5BD7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9694-56A4-4F1F-BA5A-3BF4C8E4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B5FF-A9A6-4395-849C-D2367758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0398-2785-4A1A-A0B1-D8EAAD07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C74-E166-455A-AE78-114DDD1F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B600-F43F-42DC-B652-68E04F5C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972C-5F39-43AB-8BDB-A9706B4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7037-459C-4D62-B960-4252B27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87CA-06A8-49E1-AF63-33A080F9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56A7-E675-46C1-8FD9-1C65B491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6D36-6BE7-4136-9A8A-5EA511FD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BF0D3-1536-4C53-8028-820A937A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B39C-B37F-42C3-8B62-F5067A75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19DC-67B5-4C0F-B906-05591C6A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FE719-D779-46F0-B5F4-AF4307C5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6D5-67D2-4029-9063-D0BDAA02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F1E4-6A46-44D0-B1EE-65347B9F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7348-B2F6-4E4F-AA03-8534EE6E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11D9-BA9D-442C-A367-6599ADA0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F36B0-E8F9-40AE-AEC6-E30B7B53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D0AB6-5DB0-425A-8C04-EF5531D1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D732-C193-4CF2-8BBB-E1076B06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83E2C-9499-490B-A509-B6C7A89F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1515-E2A4-404D-A24C-4014FA9B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62C2-8EC9-4A80-ADF2-C766E4EF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F68DA-D55C-4250-9805-8707CF47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9C8-3BD5-43B9-96BB-AE740D65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3A5AA-940D-42DE-B19B-7A6FA40B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816AA-D19B-4AC4-98DA-4E9BA9BC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63350-9B19-4163-A4FA-DF255C6F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87C3-DBC4-40ED-9D06-CEA0514A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C36AD-E33D-4747-AAA6-D9A97C68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0645D-61D6-4387-9B7A-4CBE751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A81E5-1681-4E86-AD60-82296C8F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B797F-2834-43BA-A5C5-EF8C7D8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6742-480A-4F1F-AE18-7E3AADFA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FA6CA-8449-4D0E-832A-9B04005E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DED-15D4-4AB0-A242-D72BF924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282E5-63F5-4C5B-89AC-05E19949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FAD4-D6EF-46D7-BFC8-8E0F5AE5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EE4A-6CA4-4D55-A7C5-C5FB9CEA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A930-F344-4437-92F0-F829FF46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3C4E6-7134-4DE6-A9B7-AB6C6480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4147-7095-4D78-B77C-5BE0CFAE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179C-0F1A-44E0-811F-BC69E414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466B9-B2AF-4055-969B-FAFBA586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BC1A7-52DD-4025-9511-7C03D6D1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35FB0-EEE9-4E63-8605-EF1BA481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1D9-C0CC-491C-99A1-BCD1AB5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52BB-E4D5-49FC-B214-B678E33B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F9B8B-3439-4D1A-B2D5-563BA26A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9DB87-9028-47D1-AD76-64F6D58B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FED14-E12B-49A3-A0D4-D9C72ACB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8D6C-8A2C-4329-A389-876E3F77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06B8D-52DD-433A-96BC-D7C4CC89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E0BF2-5359-4CC4-8B22-D42D9E84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C3DAA-EB2A-469F-A59E-733E6B34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0DDB6-4286-459C-887A-9EB9C03F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7A80E-AC13-4B03-A713-1537E499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F5F-B102-4E22-8680-06F7C5AE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53DAD-95E3-4849-AB27-36D5866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518DC-01FA-4C04-BB10-EFA7046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DB909-5896-426E-8D97-7616D99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1B935-D607-4F5F-8605-8101B65E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F214F-0CC9-458C-9A8E-C35315E0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C90F6-F903-49B9-BB8B-428B53B1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03AB9-0521-449C-8F13-6C7FEFAB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2FEEE-8E39-4DDD-A927-1110786C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5858C-3C53-46D6-A67B-A614BE1D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6347F-3855-4D8C-BEDD-87DA397D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F95-FF21-4E13-A44A-20DA7D43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CAC0A-6FAA-43DE-8C4F-B5096068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C6786-D6AA-4CEC-9C98-427523A7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8D08C-438B-4FB5-B7D8-CE7FD3BA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6ED8D-ADFA-4DAD-A582-2CD5B8B1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B76C4-E278-4343-8BBC-F7A08D30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851DE-9223-4C9B-B0BF-9A4E9CA5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837AB-3D96-4CEE-8A2D-F33B29AB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40F52-FA0E-4D06-B4D7-64EFA96E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49B11-14B6-42A9-A504-B7C2D11F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714B3-43EE-4B07-AF29-A8FDF21E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1E438-EDD6-4D2D-8D9A-64363789CA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9A64E-9D06-4A0B-AE5A-A35784CECB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5B312-95C2-4937-9E94-4261292132B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D47DB-6D95-4657-A955-AEA0F0C4097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346D3-BFE1-4E62-A907-4967F3DAC6C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0A61-27DF-429E-82DB-5CAF3FBCEE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D506F-DB72-4773-A247-FDFAB40735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FCCB9-0BB1-4D10-BAA6-00F6A26A67F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5E15C-71E6-48D0-BC5E-4F2C7E4E5C7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91DFD-7E80-49E1-BF23-CF1734765C7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13F4C-A283-4BD5-8651-4B5D8AAF4CA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C2CB2-9960-4280-9B99-97A174A6EE7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8AF04-3099-4D6D-9ACD-E62C5252233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536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53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40" name="TextBox 3"/>
          <p:cNvSpPr/>
          <p:nvPr/>
        </p:nvSpPr>
        <p:spPr>
          <a:xfrm>
            <a:off x="495360" y="1106640"/>
            <a:ext cx="838512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My Country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English-speaking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8720" y="355212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543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45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文本框 22" descr=""/>
          <p:cNvPicPr/>
          <p:nvPr/>
        </p:nvPicPr>
        <p:blipFill>
          <a:blip r:embed="rId9"/>
          <a:stretch/>
        </p:blipFill>
        <p:spPr>
          <a:xfrm>
            <a:off x="3387600" y="4354560"/>
            <a:ext cx="3719520" cy="7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41" name="TextBox 8"/>
          <p:cNvSpPr/>
          <p:nvPr/>
        </p:nvSpPr>
        <p:spPr>
          <a:xfrm>
            <a:off x="2063880" y="1805040"/>
            <a:ext cx="649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know about our teach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了解有关我们老师的什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know she is 25 years old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知道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"/>
          <p:cNvSpPr/>
          <p:nvPr/>
        </p:nvSpPr>
        <p:spPr>
          <a:xfrm>
            <a:off x="1101600" y="203976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组合 26"/>
          <p:cNvGrpSpPr/>
          <p:nvPr/>
        </p:nvGrpSpPr>
        <p:grpSpPr>
          <a:xfrm>
            <a:off x="1022400" y="4351320"/>
            <a:ext cx="1244520" cy="459720"/>
            <a:chOff x="1022400" y="4351320"/>
            <a:chExt cx="1244520" cy="459720"/>
          </a:xfrm>
        </p:grpSpPr>
        <p:sp>
          <p:nvSpPr>
            <p:cNvPr id="646" name="TextBox 3"/>
            <p:cNvSpPr/>
            <p:nvPr/>
          </p:nvSpPr>
          <p:spPr>
            <a:xfrm>
              <a:off x="1275120" y="435132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22400" y="439380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8" name="矩形 21"/>
          <p:cNvSpPr/>
          <p:nvPr/>
        </p:nvSpPr>
        <p:spPr>
          <a:xfrm>
            <a:off x="2351160" y="4249800"/>
            <a:ext cx="652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know _____ China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o        B. about        C.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"/>
          <p:cNvSpPr/>
          <p:nvPr/>
        </p:nvSpPr>
        <p:spPr>
          <a:xfrm>
            <a:off x="5183280" y="4375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51" name="文本框 17"/>
          <p:cNvSpPr/>
          <p:nvPr/>
        </p:nvSpPr>
        <p:spPr>
          <a:xfrm>
            <a:off x="2933640" y="1380960"/>
            <a:ext cx="24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ity /sɪti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城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圆角矩形 18"/>
          <p:cNvSpPr/>
          <p:nvPr/>
        </p:nvSpPr>
        <p:spPr>
          <a:xfrm>
            <a:off x="851040" y="15080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19"/>
          <p:cNvSpPr/>
          <p:nvPr/>
        </p:nvSpPr>
        <p:spPr>
          <a:xfrm>
            <a:off x="1109520" y="1474920"/>
            <a:ext cx="15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图片 9" descr="book.gif"/>
          <p:cNvPicPr/>
          <p:nvPr/>
        </p:nvPicPr>
        <p:blipFill>
          <a:blip r:embed="rId2"/>
          <a:stretch/>
        </p:blipFill>
        <p:spPr>
          <a:xfrm>
            <a:off x="49320" y="13939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657" name="TextBox 8"/>
          <p:cNvSpPr/>
          <p:nvPr/>
        </p:nvSpPr>
        <p:spPr>
          <a:xfrm>
            <a:off x="2255760" y="2127240"/>
            <a:ext cx="41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come from a beautiful city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来自一个美丽的城市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3"/>
          <p:cNvSpPr/>
          <p:nvPr/>
        </p:nvSpPr>
        <p:spPr>
          <a:xfrm>
            <a:off x="1136520" y="239220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4"/>
          <p:cNvSpPr/>
          <p:nvPr/>
        </p:nvSpPr>
        <p:spPr>
          <a:xfrm>
            <a:off x="1395360" y="37940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8"/>
          <p:cNvSpPr/>
          <p:nvPr/>
        </p:nvSpPr>
        <p:spPr>
          <a:xfrm>
            <a:off x="2306520" y="3597120"/>
            <a:ext cx="30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pital cit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首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3413160" y="4500720"/>
            <a:ext cx="28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it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怜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"/>
          <p:cNvSpPr/>
          <p:nvPr/>
        </p:nvSpPr>
        <p:spPr>
          <a:xfrm>
            <a:off x="1114560" y="4738680"/>
            <a:ext cx="23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4"/>
          <p:cNvSpPr/>
          <p:nvPr/>
        </p:nvSpPr>
        <p:spPr>
          <a:xfrm>
            <a:off x="1512000" y="5597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8"/>
          <p:cNvSpPr/>
          <p:nvPr/>
        </p:nvSpPr>
        <p:spPr>
          <a:xfrm>
            <a:off x="2933640" y="531972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ity → citie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66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8"/>
          <p:cNvSpPr/>
          <p:nvPr/>
        </p:nvSpPr>
        <p:spPr>
          <a:xfrm>
            <a:off x="1295280" y="4213080"/>
            <a:ext cx="180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it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城市   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3"/>
          <p:cNvSpPr/>
          <p:nvPr/>
        </p:nvSpPr>
        <p:spPr>
          <a:xfrm>
            <a:off x="879480" y="166536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图示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2"/>
          <a:stretch/>
        </p:blipFill>
        <p:spPr>
          <a:xfrm>
            <a:off x="906480" y="2546280"/>
            <a:ext cx="2448000" cy="1638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"/>
          <p:cNvPicPr/>
          <p:nvPr/>
        </p:nvPicPr>
        <p:blipFill>
          <a:blip r:embed="rId3"/>
          <a:stretch/>
        </p:blipFill>
        <p:spPr>
          <a:xfrm>
            <a:off x="3703680" y="2508120"/>
            <a:ext cx="1971720" cy="1676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"/>
          <p:cNvPicPr/>
          <p:nvPr/>
        </p:nvPicPr>
        <p:blipFill>
          <a:blip r:embed="rId4"/>
          <a:stretch/>
        </p:blipFill>
        <p:spPr>
          <a:xfrm>
            <a:off x="6151680" y="2508120"/>
            <a:ext cx="2306520" cy="1676520"/>
          </a:xfrm>
          <a:prstGeom prst="rect">
            <a:avLst/>
          </a:prstGeom>
          <a:ln w="0">
            <a:noFill/>
          </a:ln>
        </p:spPr>
      </p:pic>
      <p:sp>
        <p:nvSpPr>
          <p:cNvPr id="673" name="TextBox 8"/>
          <p:cNvSpPr/>
          <p:nvPr/>
        </p:nvSpPr>
        <p:spPr>
          <a:xfrm>
            <a:off x="3967200" y="4230720"/>
            <a:ext cx="173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w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城镇    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8"/>
          <p:cNvSpPr/>
          <p:nvPr/>
        </p:nvSpPr>
        <p:spPr>
          <a:xfrm>
            <a:off x="6464160" y="4213080"/>
            <a:ext cx="174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llag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庄 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676" name="文本框 17"/>
          <p:cNvSpPr/>
          <p:nvPr/>
        </p:nvSpPr>
        <p:spPr>
          <a:xfrm>
            <a:off x="3378240" y="1380960"/>
            <a:ext cx="33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eaf /liːf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叶子；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圆角矩形 18"/>
          <p:cNvSpPr/>
          <p:nvPr/>
        </p:nvSpPr>
        <p:spPr>
          <a:xfrm>
            <a:off x="1295280" y="15080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19"/>
          <p:cNvSpPr/>
          <p:nvPr/>
        </p:nvSpPr>
        <p:spPr>
          <a:xfrm>
            <a:off x="1554120" y="147492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图片 9" descr="book.gif"/>
          <p:cNvPicPr/>
          <p:nvPr/>
        </p:nvPicPr>
        <p:blipFill>
          <a:blip r:embed="rId2"/>
          <a:stretch/>
        </p:blipFill>
        <p:spPr>
          <a:xfrm>
            <a:off x="493560" y="13939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682" name="TextBox 8"/>
          <p:cNvSpPr/>
          <p:nvPr/>
        </p:nvSpPr>
        <p:spPr>
          <a:xfrm>
            <a:off x="2693880" y="2746440"/>
            <a:ext cx="524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are many new leaves in the tree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树上有许多新叶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3"/>
          <p:cNvSpPr/>
          <p:nvPr/>
        </p:nvSpPr>
        <p:spPr>
          <a:xfrm>
            <a:off x="1565280" y="299736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4"/>
          <p:cNvSpPr/>
          <p:nvPr/>
        </p:nvSpPr>
        <p:spPr>
          <a:xfrm>
            <a:off x="1733040" y="2282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8"/>
          <p:cNvSpPr/>
          <p:nvPr/>
        </p:nvSpPr>
        <p:spPr>
          <a:xfrm>
            <a:off x="2684520" y="2063880"/>
            <a:ext cx="39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iː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4"/>
          <p:cNvSpPr/>
          <p:nvPr/>
        </p:nvSpPr>
        <p:spPr>
          <a:xfrm>
            <a:off x="1863000" y="4456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3117960" y="4179960"/>
            <a:ext cx="534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af → leave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名词，变复数时，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再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68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1336680" y="3338640"/>
            <a:ext cx="8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8"/>
          <p:cNvSpPr/>
          <p:nvPr/>
        </p:nvSpPr>
        <p:spPr>
          <a:xfrm>
            <a:off x="2981160" y="1898640"/>
            <a:ext cx="61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树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leaf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半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half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self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妻子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wife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拿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knife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割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家后藏着一只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wolf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像小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thief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逃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life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组合 2"/>
          <p:cNvGrpSpPr/>
          <p:nvPr/>
        </p:nvGrpSpPr>
        <p:grpSpPr>
          <a:xfrm>
            <a:off x="1162080" y="2025720"/>
            <a:ext cx="2368440" cy="459720"/>
            <a:chOff x="1162080" y="2025720"/>
            <a:chExt cx="2368440" cy="459720"/>
          </a:xfrm>
        </p:grpSpPr>
        <p:sp>
          <p:nvSpPr>
            <p:cNvPr id="694" name="TextBox 10"/>
            <p:cNvSpPr/>
            <p:nvPr/>
          </p:nvSpPr>
          <p:spPr>
            <a:xfrm>
              <a:off x="1442160" y="2025720"/>
              <a:ext cx="20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5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162080" y="206136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组合 26"/>
          <p:cNvGrpSpPr/>
          <p:nvPr/>
        </p:nvGrpSpPr>
        <p:grpSpPr>
          <a:xfrm>
            <a:off x="1177920" y="4349880"/>
            <a:ext cx="1244520" cy="459720"/>
            <a:chOff x="1177920" y="4349880"/>
            <a:chExt cx="1244520" cy="459720"/>
          </a:xfrm>
        </p:grpSpPr>
        <p:sp>
          <p:nvSpPr>
            <p:cNvPr id="697" name="TextBox 3"/>
            <p:cNvSpPr/>
            <p:nvPr/>
          </p:nvSpPr>
          <p:spPr>
            <a:xfrm>
              <a:off x="1430640" y="43498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8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1177920" y="439236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矩形 22"/>
          <p:cNvSpPr/>
          <p:nvPr/>
        </p:nvSpPr>
        <p:spPr>
          <a:xfrm>
            <a:off x="2211480" y="4275000"/>
            <a:ext cx="652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所给单词的正确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are many _____ (leaf) on the play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"/>
          <p:cNvSpPr/>
          <p:nvPr/>
        </p:nvSpPr>
        <p:spPr>
          <a:xfrm>
            <a:off x="4286160" y="49402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4"/>
          <p:cNvSpPr/>
          <p:nvPr/>
        </p:nvSpPr>
        <p:spPr>
          <a:xfrm>
            <a:off x="2257560" y="5489640"/>
            <a:ext cx="5376600" cy="569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26"/>
          <p:cNvSpPr/>
          <p:nvPr/>
        </p:nvSpPr>
        <p:spPr>
          <a:xfrm>
            <a:off x="3287880" y="5489640"/>
            <a:ext cx="4070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many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修饰可数名词复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70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6" name="TextBox 1"/>
          <p:cNvSpPr/>
          <p:nvPr/>
        </p:nvSpPr>
        <p:spPr>
          <a:xfrm>
            <a:off x="1247760" y="3692520"/>
            <a:ext cx="305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the CN Tower. It is very t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文本框 8" descr=""/>
          <p:cNvPicPr/>
          <p:nvPr/>
        </p:nvPicPr>
        <p:blipFill>
          <a:blip r:embed="rId3"/>
          <a:stretch/>
        </p:blipFill>
        <p:spPr>
          <a:xfrm>
            <a:off x="1706400" y="136440"/>
            <a:ext cx="6675480" cy="649440"/>
          </a:xfrm>
          <a:prstGeom prst="rect">
            <a:avLst/>
          </a:prstGeom>
          <a:ln w="0">
            <a:noFill/>
          </a:ln>
        </p:spPr>
      </p:pic>
      <p:sp>
        <p:nvSpPr>
          <p:cNvPr id="708" name="矩形 1"/>
          <p:cNvSpPr/>
          <p:nvPr/>
        </p:nvSpPr>
        <p:spPr>
          <a:xfrm>
            <a:off x="4189320" y="1287360"/>
            <a:ext cx="510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Niagara Fa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is a famous waterfall in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13" descr=""/>
          <p:cNvPicPr/>
          <p:nvPr/>
        </p:nvPicPr>
        <p:blipFill>
          <a:blip r:embed="rId4"/>
          <a:stretch/>
        </p:blipFill>
        <p:spPr>
          <a:xfrm>
            <a:off x="603360" y="1163520"/>
            <a:ext cx="3467160" cy="19144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4" descr=""/>
          <p:cNvPicPr/>
          <p:nvPr/>
        </p:nvPicPr>
        <p:blipFill>
          <a:blip r:embed="rId5"/>
          <a:stretch/>
        </p:blipFill>
        <p:spPr>
          <a:xfrm>
            <a:off x="4425840" y="3360600"/>
            <a:ext cx="3409920" cy="18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文本框 8" descr=""/>
          <p:cNvPicPr/>
          <p:nvPr/>
        </p:nvPicPr>
        <p:blipFill>
          <a:blip r:embed="rId1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grpSp>
        <p:nvGrpSpPr>
          <p:cNvPr id="712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71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5" name="Picture 19" descr="C:\Users\john\Desktop\V3_~S{IN$9H4A$U[T4@]QLC.png"/>
          <p:cNvPicPr/>
          <p:nvPr/>
        </p:nvPicPr>
        <p:blipFill>
          <a:blip r:embed="rId4"/>
          <a:stretch/>
        </p:blipFill>
        <p:spPr>
          <a:xfrm>
            <a:off x="1019160" y="1170000"/>
            <a:ext cx="7443720" cy="4844880"/>
          </a:xfrm>
          <a:prstGeom prst="rect">
            <a:avLst/>
          </a:prstGeom>
          <a:ln w="0">
            <a:noFill/>
          </a:ln>
        </p:spPr>
      </p:pic>
      <p:sp>
        <p:nvSpPr>
          <p:cNvPr id="716" name="椭圆 23"/>
          <p:cNvSpPr/>
          <p:nvPr/>
        </p:nvSpPr>
        <p:spPr>
          <a:xfrm>
            <a:off x="7077240" y="3301920"/>
            <a:ext cx="360360" cy="35712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椭圆 28"/>
          <p:cNvSpPr/>
          <p:nvPr/>
        </p:nvSpPr>
        <p:spPr>
          <a:xfrm>
            <a:off x="5692680" y="3868560"/>
            <a:ext cx="360360" cy="3574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椭圆 29"/>
          <p:cNvSpPr/>
          <p:nvPr/>
        </p:nvSpPr>
        <p:spPr>
          <a:xfrm>
            <a:off x="7140600" y="3855960"/>
            <a:ext cx="360360" cy="3556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椭圆 30"/>
          <p:cNvSpPr/>
          <p:nvPr/>
        </p:nvSpPr>
        <p:spPr>
          <a:xfrm>
            <a:off x="7437600" y="4405320"/>
            <a:ext cx="360360" cy="35712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椭圆 31"/>
          <p:cNvSpPr/>
          <p:nvPr/>
        </p:nvSpPr>
        <p:spPr>
          <a:xfrm>
            <a:off x="6897600" y="5238720"/>
            <a:ext cx="360360" cy="3556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8"/>
          <p:cNvSpPr/>
          <p:nvPr/>
        </p:nvSpPr>
        <p:spPr>
          <a:xfrm>
            <a:off x="682560" y="1251000"/>
            <a:ext cx="82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口能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语小天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下面的图片，两个同学一组进行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14" descr=""/>
          <p:cNvPicPr/>
          <p:nvPr/>
        </p:nvPicPr>
        <p:blipFill>
          <a:blip r:embed="rId1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"/>
          <p:cNvPicPr/>
          <p:nvPr/>
        </p:nvPicPr>
        <p:blipFill>
          <a:blip r:embed="rId2"/>
          <a:stretch/>
        </p:blipFill>
        <p:spPr>
          <a:xfrm>
            <a:off x="1825560" y="2451240"/>
            <a:ext cx="2097000" cy="17460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" descr=""/>
          <p:cNvPicPr/>
          <p:nvPr/>
        </p:nvPicPr>
        <p:blipFill>
          <a:blip r:embed="rId3"/>
          <a:stretch/>
        </p:blipFill>
        <p:spPr>
          <a:xfrm>
            <a:off x="1893960" y="4410000"/>
            <a:ext cx="2241360" cy="16048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5" descr=""/>
          <p:cNvPicPr/>
          <p:nvPr/>
        </p:nvPicPr>
        <p:blipFill>
          <a:blip r:embed="rId4"/>
          <a:stretch/>
        </p:blipFill>
        <p:spPr>
          <a:xfrm>
            <a:off x="5021280" y="4410000"/>
            <a:ext cx="2268360" cy="14209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" descr=""/>
          <p:cNvPicPr/>
          <p:nvPr/>
        </p:nvPicPr>
        <p:blipFill>
          <a:blip r:embed="rId5"/>
          <a:stretch/>
        </p:blipFill>
        <p:spPr>
          <a:xfrm>
            <a:off x="4938840" y="2728800"/>
            <a:ext cx="2422440" cy="11908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3514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图片 14" descr=""/>
          <p:cNvPicPr/>
          <p:nvPr/>
        </p:nvPicPr>
        <p:blipFill>
          <a:blip r:embed="rId1"/>
          <a:stretch/>
        </p:blipFill>
        <p:spPr>
          <a:xfrm>
            <a:off x="3284640" y="2127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29" name="TextBox 8"/>
          <p:cNvSpPr/>
          <p:nvPr/>
        </p:nvSpPr>
        <p:spPr>
          <a:xfrm>
            <a:off x="1111320" y="1378080"/>
            <a:ext cx="724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句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country i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is the capital city of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colour is the flag of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on the flag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know about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31" name="TextBox 1"/>
          <p:cNvSpPr/>
          <p:nvPr/>
        </p:nvSpPr>
        <p:spPr>
          <a:xfrm>
            <a:off x="1251000" y="1565280"/>
            <a:ext cx="755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I read a book ______ flo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n                      B. about                   C.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— _____ do you know about Ch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know many famous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Where              B. What                    C.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This is a red ______ , but those  are green 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ea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af         B. lea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aves         C. lea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a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"/>
          <p:cNvSpPr/>
          <p:nvPr/>
        </p:nvSpPr>
        <p:spPr>
          <a:xfrm>
            <a:off x="2179800" y="3328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734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Box 1"/>
          <p:cNvSpPr/>
          <p:nvPr/>
        </p:nvSpPr>
        <p:spPr>
          <a:xfrm>
            <a:off x="3745440" y="223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"/>
          <p:cNvSpPr/>
          <p:nvPr/>
        </p:nvSpPr>
        <p:spPr>
          <a:xfrm>
            <a:off x="3525840" y="4981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"/>
          <p:cNvSpPr/>
          <p:nvPr/>
        </p:nvSpPr>
        <p:spPr>
          <a:xfrm>
            <a:off x="1527120" y="4417920"/>
            <a:ext cx="67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point out the color  for Canada on each map? What do you know about this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2" descr="C:\Users\john\Desktop\兼职课件\冀教5文件\冀教5年级动画图片\Unit 2 图片\006.jpg"/>
          <p:cNvPicPr/>
          <p:nvPr/>
        </p:nvPicPr>
        <p:blipFill>
          <a:blip r:embed="rId2"/>
          <a:stretch/>
        </p:blipFill>
        <p:spPr>
          <a:xfrm>
            <a:off x="460440" y="1808280"/>
            <a:ext cx="2539800" cy="190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3" descr="C:\Users\john\Desktop\timg[1].jpg"/>
          <p:cNvPicPr/>
          <p:nvPr/>
        </p:nvPicPr>
        <p:blipFill>
          <a:blip r:embed="rId3"/>
          <a:stretch/>
        </p:blipFill>
        <p:spPr>
          <a:xfrm>
            <a:off x="6459480" y="1711440"/>
            <a:ext cx="2139840" cy="22161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C:\Users\john\Desktop\timg[8].jpg"/>
          <p:cNvPicPr/>
          <p:nvPr/>
        </p:nvPicPr>
        <p:blipFill>
          <a:blip r:embed="rId4"/>
          <a:stretch/>
        </p:blipFill>
        <p:spPr>
          <a:xfrm>
            <a:off x="2728800" y="1925640"/>
            <a:ext cx="3407040" cy="17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739" name="TextBox 1"/>
          <p:cNvSpPr/>
          <p:nvPr/>
        </p:nvSpPr>
        <p:spPr>
          <a:xfrm>
            <a:off x="806400" y="1901880"/>
            <a:ext cx="78804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魔法变变变。变化一个或两个字母，变一个新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ity — _______  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ow — ________   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nada — ________    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ove — _______    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2"/>
          <p:cNvSpPr/>
          <p:nvPr/>
        </p:nvSpPr>
        <p:spPr>
          <a:xfrm>
            <a:off x="2646360" y="34146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"/>
          <p:cNvSpPr/>
          <p:nvPr/>
        </p:nvSpPr>
        <p:spPr>
          <a:xfrm>
            <a:off x="2522520" y="27734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"/>
          <p:cNvSpPr/>
          <p:nvPr/>
        </p:nvSpPr>
        <p:spPr>
          <a:xfrm>
            <a:off x="2828880" y="405288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n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745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TextBox 3"/>
          <p:cNvSpPr/>
          <p:nvPr/>
        </p:nvSpPr>
        <p:spPr>
          <a:xfrm>
            <a:off x="2606760" y="4737240"/>
            <a:ext cx="11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49" name="TextBox 3"/>
          <p:cNvSpPr/>
          <p:nvPr/>
        </p:nvSpPr>
        <p:spPr>
          <a:xfrm>
            <a:off x="930240" y="116208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"/>
          <p:cNvSpPr/>
          <p:nvPr/>
        </p:nvSpPr>
        <p:spPr>
          <a:xfrm>
            <a:off x="855720" y="2712960"/>
            <a:ext cx="806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nada  know  about  city 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know about Canada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know they speak English and French in    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5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56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文本框 25" descr=""/>
          <p:cNvPicPr/>
          <p:nvPr/>
        </p:nvPicPr>
        <p:blipFill>
          <a:blip r:embed="rId1"/>
          <a:stretch/>
        </p:blipFill>
        <p:spPr>
          <a:xfrm>
            <a:off x="2562120" y="257040"/>
            <a:ext cx="4440240" cy="64944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56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2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2"/>
          <p:cNvSpPr/>
          <p:nvPr/>
        </p:nvSpPr>
        <p:spPr>
          <a:xfrm>
            <a:off x="660240" y="1166760"/>
            <a:ext cx="800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This country is Canada. I know about Canada.     My friends Jenny and Danny live in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 Zhang: What do you know about Canada, 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I know they speak English and French in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I also know the capital city of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Ottaw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The flag of Canada is red and wh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has a red leaf on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2"/>
          <p:cNvSpPr/>
          <p:nvPr/>
        </p:nvSpPr>
        <p:spPr>
          <a:xfrm>
            <a:off x="7122960" y="3841920"/>
            <a:ext cx="1617840" cy="111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8" descr=""/>
          <p:cNvPicPr/>
          <p:nvPr/>
        </p:nvPicPr>
        <p:blipFill>
          <a:blip r:embed="rId7"/>
          <a:stretch/>
        </p:blipFill>
        <p:spPr>
          <a:xfrm>
            <a:off x="7243920" y="3916440"/>
            <a:ext cx="1400040" cy="9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17"/>
          <p:cNvSpPr/>
          <p:nvPr/>
        </p:nvSpPr>
        <p:spPr>
          <a:xfrm>
            <a:off x="2948040" y="14191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nada /kænədə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圆角矩形 18"/>
          <p:cNvSpPr/>
          <p:nvPr/>
        </p:nvSpPr>
        <p:spPr>
          <a:xfrm>
            <a:off x="1076400" y="15318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19"/>
          <p:cNvSpPr/>
          <p:nvPr/>
        </p:nvSpPr>
        <p:spPr>
          <a:xfrm>
            <a:off x="1357200" y="1512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图片 9" descr="book.gif"/>
          <p:cNvPicPr/>
          <p:nvPr/>
        </p:nvPicPr>
        <p:blipFill>
          <a:blip r:embed="rId2"/>
          <a:stretch/>
        </p:blipFill>
        <p:spPr>
          <a:xfrm>
            <a:off x="304920" y="145404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575" name="TextBox 5"/>
          <p:cNvSpPr/>
          <p:nvPr/>
        </p:nvSpPr>
        <p:spPr>
          <a:xfrm>
            <a:off x="1341360" y="24717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音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1355760" y="343548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5"/>
          <p:cNvSpPr/>
          <p:nvPr/>
        </p:nvSpPr>
        <p:spPr>
          <a:xfrm>
            <a:off x="1382760" y="513072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词形变化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9"/>
          <p:cNvSpPr/>
          <p:nvPr/>
        </p:nvSpPr>
        <p:spPr>
          <a:xfrm>
            <a:off x="2408400" y="2484360"/>
            <a:ext cx="27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的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k/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20"/>
          <p:cNvSpPr/>
          <p:nvPr/>
        </p:nvSpPr>
        <p:spPr>
          <a:xfrm>
            <a:off x="2428920" y="3197160"/>
            <a:ext cx="502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friend Jenny lives in Can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的朋友詹妮住在加拿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1"/>
          <p:cNvSpPr/>
          <p:nvPr/>
        </p:nvSpPr>
        <p:spPr>
          <a:xfrm>
            <a:off x="2928960" y="5121360"/>
            <a:ext cx="56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nadia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j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加拿大的；加拿大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8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"/>
          <p:cNvSpPr/>
          <p:nvPr/>
        </p:nvSpPr>
        <p:spPr>
          <a:xfrm>
            <a:off x="1336680" y="3338640"/>
            <a:ext cx="8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1630440" y="2384280"/>
            <a:ext cx="618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竹板一打呀，说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na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首都是哪里，单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ttaw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南临国家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.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语言相通像一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peak Engli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enc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讲得顶呱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枫叶一片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la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尼亚加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iagar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ocky Mountain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落基山，长大你就去参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组合 2"/>
          <p:cNvGrpSpPr/>
          <p:nvPr/>
        </p:nvGrpSpPr>
        <p:grpSpPr>
          <a:xfrm>
            <a:off x="1641600" y="1868400"/>
            <a:ext cx="2368440" cy="459720"/>
            <a:chOff x="1641600" y="1868400"/>
            <a:chExt cx="2368440" cy="459720"/>
          </a:xfrm>
        </p:grpSpPr>
        <p:sp>
          <p:nvSpPr>
            <p:cNvPr id="587" name="TextBox 10"/>
            <p:cNvSpPr/>
            <p:nvPr/>
          </p:nvSpPr>
          <p:spPr>
            <a:xfrm>
              <a:off x="1921680" y="1868400"/>
              <a:ext cx="20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641600" y="190404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590" name="文本框 17"/>
          <p:cNvSpPr/>
          <p:nvPr/>
        </p:nvSpPr>
        <p:spPr>
          <a:xfrm>
            <a:off x="3481560" y="1657440"/>
            <a:ext cx="36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now /nəʊ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知道；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8"/>
          <p:cNvSpPr/>
          <p:nvPr/>
        </p:nvSpPr>
        <p:spPr>
          <a:xfrm>
            <a:off x="1592280" y="17794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2"/>
          <p:cNvGrpSpPr/>
          <p:nvPr/>
        </p:nvGrpSpPr>
        <p:grpSpPr>
          <a:xfrm>
            <a:off x="1076400" y="1671480"/>
            <a:ext cx="2298600" cy="667080"/>
            <a:chOff x="1076400" y="1671480"/>
            <a:chExt cx="2298600" cy="667080"/>
          </a:xfrm>
        </p:grpSpPr>
        <p:sp>
          <p:nvSpPr>
            <p:cNvPr id="595" name="文本框 19"/>
            <p:cNvSpPr/>
            <p:nvPr/>
          </p:nvSpPr>
          <p:spPr>
            <a:xfrm>
              <a:off x="1929600" y="1749240"/>
              <a:ext cx="144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1076400" y="1671480"/>
              <a:ext cx="921600" cy="6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TextBox 5"/>
          <p:cNvSpPr/>
          <p:nvPr/>
        </p:nvSpPr>
        <p:spPr>
          <a:xfrm>
            <a:off x="1920960" y="25560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6"/>
          <p:cNvSpPr/>
          <p:nvPr/>
        </p:nvSpPr>
        <p:spPr>
          <a:xfrm>
            <a:off x="1898640" y="341784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词形变化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8"/>
          <p:cNvSpPr/>
          <p:nvPr/>
        </p:nvSpPr>
        <p:spPr>
          <a:xfrm>
            <a:off x="3147840" y="256716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know.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知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9"/>
          <p:cNvSpPr/>
          <p:nvPr/>
        </p:nvSpPr>
        <p:spPr>
          <a:xfrm>
            <a:off x="3537000" y="3154320"/>
            <a:ext cx="412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ow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j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的；知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ew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过去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4835520" y="4676760"/>
            <a:ext cx="12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"/>
          <p:cNvSpPr/>
          <p:nvPr/>
        </p:nvSpPr>
        <p:spPr>
          <a:xfrm>
            <a:off x="1917720" y="4925880"/>
            <a:ext cx="26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同音异义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4221000" y="5364000"/>
            <a:ext cx="164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now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3"/>
          <p:cNvSpPr/>
          <p:nvPr/>
        </p:nvSpPr>
        <p:spPr>
          <a:xfrm>
            <a:off x="1936800" y="5619600"/>
            <a:ext cx="23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0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2"/>
          <p:cNvSpPr/>
          <p:nvPr/>
        </p:nvSpPr>
        <p:spPr>
          <a:xfrm>
            <a:off x="1336680" y="3338640"/>
            <a:ext cx="8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2"/>
          <p:cNvSpPr/>
          <p:nvPr/>
        </p:nvSpPr>
        <p:spPr>
          <a:xfrm>
            <a:off x="1336680" y="3338640"/>
            <a:ext cx="804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1"/>
          <p:cNvGrpSpPr/>
          <p:nvPr/>
        </p:nvGrpSpPr>
        <p:grpSpPr>
          <a:xfrm>
            <a:off x="1081080" y="3341520"/>
            <a:ext cx="1806480" cy="1514520"/>
            <a:chOff x="1081080" y="3341520"/>
            <a:chExt cx="1806480" cy="1514520"/>
          </a:xfrm>
        </p:grpSpPr>
        <p:pic>
          <p:nvPicPr>
            <p:cNvPr id="611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1081080" y="334152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文本框 2"/>
            <p:cNvSpPr/>
            <p:nvPr/>
          </p:nvSpPr>
          <p:spPr>
            <a:xfrm>
              <a:off x="1587600" y="36633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2"/>
          <p:cNvSpPr/>
          <p:nvPr/>
        </p:nvSpPr>
        <p:spPr>
          <a:xfrm>
            <a:off x="2587680" y="485604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发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1127160" y="17622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22"/>
          <p:cNvSpPr/>
          <p:nvPr/>
        </p:nvSpPr>
        <p:spPr>
          <a:xfrm>
            <a:off x="2179800" y="1509840"/>
            <a:ext cx="359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ow abo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知道；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ow o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知道；听说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17"/>
          <p:cNvSpPr/>
          <p:nvPr/>
        </p:nvSpPr>
        <p:spPr>
          <a:xfrm>
            <a:off x="2629080" y="1382760"/>
            <a:ext cx="51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out /ə’baʊ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ep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于；大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圆角矩形 18"/>
          <p:cNvSpPr/>
          <p:nvPr/>
        </p:nvSpPr>
        <p:spPr>
          <a:xfrm>
            <a:off x="851040" y="15080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19"/>
          <p:cNvSpPr/>
          <p:nvPr/>
        </p:nvSpPr>
        <p:spPr>
          <a:xfrm>
            <a:off x="1109520" y="14749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9" descr="book.gif"/>
          <p:cNvPicPr/>
          <p:nvPr/>
        </p:nvPicPr>
        <p:blipFill>
          <a:blip r:embed="rId2"/>
          <a:stretch/>
        </p:blipFill>
        <p:spPr>
          <a:xfrm>
            <a:off x="49320" y="13939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623" name="TextBox 8"/>
          <p:cNvSpPr/>
          <p:nvPr/>
        </p:nvSpPr>
        <p:spPr>
          <a:xfrm>
            <a:off x="2149560" y="1930320"/>
            <a:ext cx="46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know something about him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知道一些关于他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bout 3 o’cloc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约三点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1136520" y="218592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"/>
          <p:cNvSpPr/>
          <p:nvPr/>
        </p:nvSpPr>
        <p:spPr>
          <a:xfrm>
            <a:off x="1378080" y="49514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8"/>
          <p:cNvSpPr/>
          <p:nvPr/>
        </p:nvSpPr>
        <p:spPr>
          <a:xfrm>
            <a:off x="2228760" y="4756320"/>
            <a:ext cx="60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lk abo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谈论 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nk abo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about ..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征求意见时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…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怎么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8"/>
          <p:cNvSpPr/>
          <p:nvPr/>
        </p:nvSpPr>
        <p:spPr>
          <a:xfrm>
            <a:off x="3343320" y="4071960"/>
            <a:ext cx="28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ov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3"/>
          <p:cNvSpPr/>
          <p:nvPr/>
        </p:nvSpPr>
        <p:spPr>
          <a:xfrm>
            <a:off x="1109520" y="4325760"/>
            <a:ext cx="23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17"/>
          <p:cNvSpPr/>
          <p:nvPr/>
        </p:nvSpPr>
        <p:spPr>
          <a:xfrm>
            <a:off x="2674800" y="1463760"/>
            <a:ext cx="64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 you know about Canada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李明，你了解有关加拿大的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know they speak English and French in    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知道在加拿大他们说英语和法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圆角矩形 18"/>
          <p:cNvSpPr/>
          <p:nvPr/>
        </p:nvSpPr>
        <p:spPr>
          <a:xfrm>
            <a:off x="808200" y="157644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19"/>
          <p:cNvSpPr/>
          <p:nvPr/>
        </p:nvSpPr>
        <p:spPr>
          <a:xfrm>
            <a:off x="1136520" y="157644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8"/>
          <p:cNvSpPr/>
          <p:nvPr/>
        </p:nvSpPr>
        <p:spPr>
          <a:xfrm>
            <a:off x="2298600" y="4208400"/>
            <a:ext cx="49150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know abou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了解有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什么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图片 9" descr="book.gif"/>
          <p:cNvPicPr/>
          <p:nvPr/>
        </p:nvPicPr>
        <p:blipFill>
          <a:blip r:embed="rId2"/>
          <a:stretch/>
        </p:blipFill>
        <p:spPr>
          <a:xfrm>
            <a:off x="115920" y="1492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637" name="矩形 3"/>
          <p:cNvSpPr/>
          <p:nvPr/>
        </p:nvSpPr>
        <p:spPr>
          <a:xfrm>
            <a:off x="1203480" y="437688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2308320" y="5537160"/>
            <a:ext cx="412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know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知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3"/>
          <p:cNvSpPr/>
          <p:nvPr/>
        </p:nvSpPr>
        <p:spPr>
          <a:xfrm>
            <a:off x="1200240" y="5672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13:28Z</dcterms:modified>
  <cp:revision>70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